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4.wmf" ContentType="image/x-wm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9C2-36FA-46C8-9FA6-4127A786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4A4-4350-42EC-864A-68F74CC9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1D57-95F7-4708-AEF5-B63DB842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42D-1219-4371-A3B0-59012E6C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8E1E-8C84-4C0B-8C3B-77C31E27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8761-9B73-431F-B641-D2776A27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E318-EC49-47FB-A339-28400C45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9B3A-74AC-4D91-8006-6DDE41BA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3EB0-17F3-408C-99B8-3F4F5C9D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C937-844E-4307-A953-D0A77988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B5EB-5791-4D6E-AD8B-4CEF2FE2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6580-3299-41A4-AB16-E919D824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D003-557C-406F-BE47-835B883E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B496-B0E9-4A78-93A1-BB6E2773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949B-1079-44BB-9C61-EF7C57ED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AA15-7864-4224-BBCF-954822AE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46D4-C727-4744-B8DC-D7529B69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DF6F6-90F4-4AA6-8E3D-77A48175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0315-C8C9-45C9-8968-72E283D2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150E6-EE3B-4200-9492-92047C71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3163F-FFE7-4741-998A-BDD73FE1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47D85-D60A-4C8E-A2DB-F0A99C83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4C3-0F14-48AA-B111-B74F6F33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30F5F-B098-4239-BDA1-E0566E92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DEF29-1C3E-4C42-93B7-C742E9E9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8E40D-1591-4886-902C-400B4DB0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92098-1E90-4228-AD40-22F4C61E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DE786-6974-4645-AAC0-CF987DC8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F662B-6848-4644-88F1-F38DF189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5401D-B553-4922-ADAF-CB3FD869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47A-FD63-46CD-BD90-51FB7A13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B63-7CB8-43FD-A3E8-DB5914D7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9938-15B8-4049-9AE1-BCDEB173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FCD-2D44-4E6E-B653-96F47E4D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FA5-2641-47A4-A570-125B2702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F85C-5435-4345-94F4-25C266DB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0605-366D-4C47-8DCC-51FA34A19FA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B18F-CD89-41E8-8E6F-BD41A97D2B0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2D6D-A128-4BE0-B8B4-4F2DB8BE8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8.xml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триггеры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299736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8e8e4"/>
                </a:solidFill>
                <a:latin typeface="Arial"/>
              </a:rPr>
              <a:t>Научный руководитель: доц. Лифенко В.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6237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мотреть презент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64000" y="404640"/>
            <a:ext cx="3322800" cy="720720"/>
          </a:xfrm>
          <a:prstGeom prst="rect">
            <a:avLst/>
          </a:prstGeom>
          <a:solidFill>
            <a:srgbClr val="000000">
              <a:alpha val="66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5050"/>
                </a:solidFill>
                <a:latin typeface="Garamond"/>
              </a:rPr>
              <a:t>JK-</a:t>
            </a:r>
            <a:r>
              <a:rPr b="1" lang="ru-RU" sz="4100" spc="-1" strike="noStrike">
                <a:solidFill>
                  <a:srgbClr val="ff5050"/>
                </a:solidFill>
                <a:latin typeface="Garamond"/>
              </a:rPr>
              <a:t>триггеры</a:t>
            </a:r>
            <a:endParaRPr b="0" lang="en-US" sz="4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9651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Что такое </a:t>
            </a: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JK-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4" action="ppaction://hlinksldjump"/>
              </a:rPr>
              <a:t>триггер и его условное обозначение на схе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1628640"/>
            <a:ext cx="3672000" cy="7207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ализац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K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ггера с помощью Л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997360"/>
            <a:ext cx="3672000" cy="7189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5" action="ppaction://hlinksldjump"/>
              </a:rPr>
              <a:t>Таблица переходов для    </a:t>
            </a: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6" action="ppaction://hlinksldjump"/>
              </a:rPr>
              <a:t>JK-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7" action="ppaction://hlinksldjump"/>
              </a:rPr>
              <a:t>тригг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4365720"/>
            <a:ext cx="3672000" cy="50328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8" action="ppaction://hlinksldjump"/>
              </a:rPr>
              <a:t>Временная диа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2997360"/>
            <a:ext cx="3672000" cy="89208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версальны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K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ггер (построение на логических элемент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4365720"/>
            <a:ext cx="3672000" cy="100800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роение других видов триггеров на основе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K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гг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1628640"/>
            <a:ext cx="0" cy="374508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1628640"/>
            <a:ext cx="0" cy="374508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1628640"/>
            <a:ext cx="0" cy="374508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5734080"/>
            <a:ext cx="2879640" cy="36828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Garamond"/>
              </a:rPr>
              <a:t>JK-</a:t>
            </a:r>
            <a:r>
              <a:rPr b="1" lang="ru-RU" sz="5000" spc="-1" strike="noStrike">
                <a:solidFill>
                  <a:srgbClr val="ffffff"/>
                </a:solidFill>
                <a:latin typeface="Garamond"/>
              </a:rPr>
              <a:t>триггер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00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 универсальным среди синхронных триггеров являет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триггер. У триггера имеются информационные входы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синхровход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 С помощью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K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ггера можно построить любой другой тип триггера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K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гге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ет быть использован как D, T и RS-тригг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ловное обознач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K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ггера на схем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ffcc"/>
                </a:solidFill>
                <a:latin typeface="Arial"/>
              </a:rPr>
              <a:t>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99ff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ffcc"/>
                </a:solidFill>
                <a:latin typeface="Arial"/>
              </a:rPr>
              <a:t>J   </a:t>
            </a:r>
            <a:r>
              <a:rPr b="0" lang="ru-RU" sz="24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cc"/>
                </a:solidFill>
                <a:latin typeface="Arial"/>
              </a:rPr>
              <a:t> ТТ    </a:t>
            </a:r>
            <a:r>
              <a:rPr b="0" lang="en-US" sz="2400" spc="-1" strike="noStrike">
                <a:solidFill>
                  <a:srgbClr val="99ffcc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99ffc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99ffcc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407664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407664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19280" y="407664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58770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43639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494028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55879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19280" y="407664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19280" y="58770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407664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457992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530064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484360" y="4867200"/>
          <a:ext cx="244440" cy="38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>
                    <a:alphaModFix amt="44000"/>
                  </a:blip>
                  <a:stretch/>
                </p:blipFill>
                <p:spPr>
                  <a:xfrm>
                    <a:off x="2484360" y="4867200"/>
                    <a:ext cx="2444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0" y="354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6308640"/>
            <a:ext cx="1295280" cy="549360"/>
          </a:xfrm>
          <a:prstGeom prst="rect">
            <a:avLst/>
          </a:pr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4" action="ppaction://hlinksldjump"/>
              </a:rPr>
              <a:t>JK-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Garamond"/>
                <a:hlinkClick r:id="rId5" action="ppaction://hlinksldjump"/>
              </a:rPr>
              <a:t>тригг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2360" y="6308640"/>
            <a:ext cx="1368360" cy="549360"/>
          </a:xfrm>
          <a:prstGeom prst="rect">
            <a:avLst/>
          </a:prstGeom>
          <a:solidFill>
            <a:srgbClr val="0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6" action="ppaction://hlinksldjump"/>
              </a:rPr>
              <a:t>Таблица пере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6308640"/>
            <a:ext cx="1224000" cy="549360"/>
          </a:xfrm>
          <a:prstGeom prst="rect">
            <a:avLst/>
          </a:prstGeom>
          <a:solidFill>
            <a:srgbClr val="0000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7" action="ppaction://hlinksldjump"/>
              </a:rPr>
              <a:t>Временная диа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27640" y="6308640"/>
            <a:ext cx="1368360" cy="549360"/>
          </a:xfrm>
          <a:prstGeom prst="rect">
            <a:avLst/>
          </a:prstGeom>
          <a:solidFill>
            <a:srgbClr val="0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8" action="ppaction://hlinksldjump"/>
              </a:rPr>
              <a:t>Построение  на Л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6308640"/>
            <a:ext cx="1657440" cy="549360"/>
          </a:xfrm>
          <a:prstGeom prst="rect">
            <a:avLst/>
          </a:prstGeom>
          <a:solidFill>
            <a:srgbClr val="0000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6600"/>
                </a:solidFill>
                <a:uFillTx/>
                <a:latin typeface="Garamond"/>
                <a:hlinkClick r:id="rId9" action="ppaction://hlinksldjump"/>
              </a:rPr>
              <a:t>Универсальный 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10" action="ppaction://hlinksldjump"/>
              </a:rPr>
              <a:t>JK-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Garamond"/>
                <a:hlinkClick r:id="rId11" action="ppaction://hlinksldjump"/>
              </a:rPr>
              <a:t>тригг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6308640"/>
            <a:ext cx="1368360" cy="549360"/>
          </a:xfrm>
          <a:prstGeom prst="rect">
            <a:avLst/>
          </a:prstGeom>
          <a:solidFill>
            <a:srgbClr val="00000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12" action="ppaction://hlinksldjump"/>
              </a:rPr>
              <a:t>Другие виды тригг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037120" cy="650880"/>
          </a:xfrm>
          <a:prstGeom prst="rect">
            <a:avLst/>
          </a:prstGeom>
          <a:solidFill>
            <a:srgbClr val="000000">
              <a:alpha val="71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5050"/>
                </a:solidFill>
                <a:latin typeface="Clarendon Extended"/>
              </a:rPr>
              <a:t>Таблица переходов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7931160" cy="5040360"/>
          </a:xfrm>
          <a:prstGeom prst="rect">
            <a:avLst/>
          </a:prstGeom>
          <a:solidFill>
            <a:srgbClr val="000000">
              <a:alpha val="5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cc"/>
                </a:solidFill>
                <a:latin typeface="Arial"/>
              </a:rPr>
              <a:t>Как и </a:t>
            </a:r>
            <a:r>
              <a:rPr b="0" lang="en-US" sz="2200" spc="-1" strike="noStrike">
                <a:solidFill>
                  <a:srgbClr val="99ffcc"/>
                </a:solidFill>
                <a:latin typeface="Arial"/>
              </a:rPr>
              <a:t>RS</a:t>
            </a:r>
            <a:r>
              <a:rPr b="0" lang="ru-RU" sz="2200" spc="-1" strike="noStrike">
                <a:solidFill>
                  <a:srgbClr val="99ffcc"/>
                </a:solidFill>
                <a:latin typeface="Arial"/>
              </a:rPr>
              <a:t>-триггер, он сохраняет свое состояние при сигналах 0 на входах. Сигнал на входе </a:t>
            </a:r>
            <a:r>
              <a:rPr b="0" lang="en-US" sz="2200" spc="-1" strike="noStrike">
                <a:solidFill>
                  <a:srgbClr val="99ffcc"/>
                </a:solidFill>
                <a:latin typeface="Arial"/>
              </a:rPr>
              <a:t>J</a:t>
            </a:r>
            <a:r>
              <a:rPr b="0" lang="ru-RU" sz="2200" spc="-1" strike="noStrike">
                <a:solidFill>
                  <a:srgbClr val="99ffcc"/>
                </a:solidFill>
                <a:latin typeface="Arial"/>
              </a:rPr>
              <a:t> включает триггер: при </a:t>
            </a:r>
            <a:r>
              <a:rPr b="0" lang="en-US" sz="2200" spc="-1" strike="noStrike">
                <a:solidFill>
                  <a:srgbClr val="99ffcc"/>
                </a:solidFill>
                <a:latin typeface="Arial"/>
              </a:rPr>
              <a:t>J</a:t>
            </a:r>
            <a:r>
              <a:rPr b="0" lang="ru-RU" sz="2200" spc="-1" strike="noStrike">
                <a:solidFill>
                  <a:srgbClr val="99ffcc"/>
                </a:solidFill>
                <a:latin typeface="Arial"/>
              </a:rPr>
              <a:t>=1 устанавливается =1. Сигнал на входе К выключает триггер: при К=1 устанавливается =0. При входном сигнале </a:t>
            </a:r>
            <a:r>
              <a:rPr b="0" lang="en-US" sz="2200" spc="-1" strike="noStrike">
                <a:solidFill>
                  <a:srgbClr val="99ffcc"/>
                </a:solidFill>
                <a:latin typeface="Arial"/>
              </a:rPr>
              <a:t>J</a:t>
            </a:r>
            <a:r>
              <a:rPr b="0" lang="ru-RU" sz="2200" spc="-1" strike="noStrike">
                <a:solidFill>
                  <a:srgbClr val="99ffcc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99ffcc"/>
                </a:solidFill>
                <a:latin typeface="Arial"/>
              </a:rPr>
              <a:t>K</a:t>
            </a:r>
            <a:r>
              <a:rPr b="0" lang="ru-RU" sz="2200" spc="-1" strike="noStrike">
                <a:solidFill>
                  <a:srgbClr val="99ffcc"/>
                </a:solidFill>
                <a:latin typeface="Arial"/>
              </a:rPr>
              <a:t>=1 начальное состояние триггера меняется на противоположное, что отличает его от </a:t>
            </a:r>
            <a:r>
              <a:rPr b="0" lang="en-US" sz="2200" spc="-1" strike="noStrike">
                <a:solidFill>
                  <a:srgbClr val="99ffcc"/>
                </a:solidFill>
                <a:latin typeface="Arial"/>
              </a:rPr>
              <a:t>RS</a:t>
            </a:r>
            <a:r>
              <a:rPr b="0" lang="ru-RU" sz="2200" spc="-1" strike="noStrike">
                <a:solidFill>
                  <a:srgbClr val="99ffcc"/>
                </a:solidFill>
                <a:latin typeface="Arial"/>
              </a:rPr>
              <a:t>-триггера где аналогичная комбинация сигналов запрещ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476360" y="3933720"/>
          <a:ext cx="6119640" cy="2190600"/>
        </p:xfrm>
        <a:graphic>
          <a:graphicData uri="http://schemas.openxmlformats.org/drawingml/2006/table">
            <a:tbl>
              <a:tblPr/>
              <a:tblGrid>
                <a:gridCol w="1155600"/>
                <a:gridCol w="1087560"/>
                <a:gridCol w="1087560"/>
                <a:gridCol w="1089000"/>
                <a:gridCol w="169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Qt+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Примеч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Q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Хранен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Q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Устан.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Устан.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Устан. </a:t>
                      </a: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Q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Arial"/>
                        </a:rPr>
                        <a:t>Инверс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324000" y="6308640"/>
            <a:ext cx="1295280" cy="549360"/>
          </a:xfrm>
          <a:prstGeom prst="rect">
            <a:avLst/>
          </a:pr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2" action="ppaction://hlinksldjump"/>
              </a:rPr>
              <a:t>JK-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Garamond"/>
                <a:hlinkClick r:id="rId3" action="ppaction://hlinksldjump"/>
              </a:rPr>
              <a:t>тригг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92360" y="6308640"/>
            <a:ext cx="1368360" cy="549360"/>
          </a:xfrm>
          <a:prstGeom prst="rect">
            <a:avLst/>
          </a:pr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4" action="ppaction://hlinksldjump"/>
              </a:rPr>
              <a:t>Таблица пере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2000" y="6308640"/>
            <a:ext cx="1224000" cy="54936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5" action="ppaction://hlinksldjump"/>
              </a:rPr>
              <a:t>Временная диа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7640" y="6308640"/>
            <a:ext cx="1368360" cy="54936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6" action="ppaction://hlinksldjump"/>
              </a:rPr>
              <a:t>Построение  на Л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6308640"/>
            <a:ext cx="1657440" cy="54936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6600"/>
                </a:solidFill>
                <a:uFillTx/>
                <a:latin typeface="Garamond"/>
                <a:hlinkClick r:id="rId7" action="ppaction://hlinksldjump"/>
              </a:rPr>
              <a:t>Универсальный 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8" action="ppaction://hlinksldjump"/>
              </a:rPr>
              <a:t>JK-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Garamond"/>
                <a:hlinkClick r:id="rId9" action="ppaction://hlinksldjump"/>
              </a:rPr>
              <a:t>тригг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6308640"/>
            <a:ext cx="1368360" cy="549360"/>
          </a:xfrm>
          <a:prstGeom prst="rect">
            <a:avLst/>
          </a:pr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10" action="ppaction://hlinksldjump"/>
              </a:rPr>
              <a:t>Другие виды тригг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Временная диаграмм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4895640" cy="2484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24000" y="1341360"/>
            <a:ext cx="8496000" cy="2016360"/>
          </a:xfrm>
          <a:prstGeom prst="rect">
            <a:avLst/>
          </a:prstGeom>
          <a:solidFill>
            <a:srgbClr val="0000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cc"/>
                </a:solidFill>
                <a:latin typeface="Garamond"/>
              </a:rPr>
              <a:t>Во время действия тактового импульса С=1 (интервал ), </a:t>
            </a:r>
            <a:r>
              <a:rPr b="1" lang="en-US" sz="2000" spc="-1" strike="noStrike">
                <a:solidFill>
                  <a:srgbClr val="99ffcc"/>
                </a:solidFill>
                <a:latin typeface="Garamond"/>
              </a:rPr>
              <a:t>J</a:t>
            </a:r>
            <a:r>
              <a:rPr b="1" lang="ru-RU" sz="2000" spc="-1" strike="noStrike">
                <a:solidFill>
                  <a:srgbClr val="99ffcc"/>
                </a:solidFill>
                <a:latin typeface="Garamond"/>
              </a:rPr>
              <a:t>=1 в момент среза импульса С триггер переходит в состояние </a:t>
            </a:r>
            <a:r>
              <a:rPr b="1" lang="en-US" sz="2000" spc="-1" strike="noStrike">
                <a:solidFill>
                  <a:srgbClr val="99ffcc"/>
                </a:solidFill>
                <a:latin typeface="Garamond"/>
              </a:rPr>
              <a:t>Q</a:t>
            </a:r>
            <a:r>
              <a:rPr b="1" lang="ru-RU" sz="2000" spc="-1" strike="noStrike">
                <a:solidFill>
                  <a:srgbClr val="99ffcc"/>
                </a:solidFill>
                <a:latin typeface="Garamond"/>
              </a:rPr>
              <a:t>=1. На интервале  триггер не воспринимает информацию на входах. На интервале второго тактового импульса  </a:t>
            </a:r>
            <a:r>
              <a:rPr b="1" lang="en-US" sz="2000" spc="-1" strike="noStrike">
                <a:solidFill>
                  <a:srgbClr val="99ffcc"/>
                </a:solidFill>
                <a:latin typeface="Garamond"/>
              </a:rPr>
              <a:t>K</a:t>
            </a:r>
            <a:r>
              <a:rPr b="1" lang="ru-RU" sz="2000" spc="-1" strike="noStrike">
                <a:solidFill>
                  <a:srgbClr val="99ffcc"/>
                </a:solidFill>
                <a:latin typeface="Garamond"/>
              </a:rPr>
              <a:t>=1, </a:t>
            </a:r>
            <a:r>
              <a:rPr b="1" lang="en-US" sz="2000" spc="-1" strike="noStrike">
                <a:solidFill>
                  <a:srgbClr val="99ffcc"/>
                </a:solidFill>
                <a:latin typeface="Garamond"/>
              </a:rPr>
              <a:t>J</a:t>
            </a:r>
            <a:r>
              <a:rPr b="1" lang="ru-RU" sz="2000" spc="-1" strike="noStrike">
                <a:solidFill>
                  <a:srgbClr val="99ffcc"/>
                </a:solidFill>
                <a:latin typeface="Garamond"/>
              </a:rPr>
              <a:t>=0, в момент  триггер переключается: </a:t>
            </a:r>
            <a:r>
              <a:rPr b="1" lang="en-US" sz="2000" spc="-1" strike="noStrike">
                <a:solidFill>
                  <a:srgbClr val="99ffcc"/>
                </a:solidFill>
                <a:latin typeface="Garamond"/>
              </a:rPr>
              <a:t>Q</a:t>
            </a:r>
            <a:r>
              <a:rPr b="1" lang="ru-RU" sz="2000" spc="-1" strike="noStrike">
                <a:solidFill>
                  <a:srgbClr val="99ffcc"/>
                </a:solidFill>
                <a:latin typeface="Garamond"/>
              </a:rPr>
              <a:t>=0. В момент действия третьего импульса С на входе триггера нулевые сигналы </a:t>
            </a:r>
            <a:r>
              <a:rPr b="1" lang="en-US" sz="2000" spc="-1" strike="noStrike">
                <a:solidFill>
                  <a:srgbClr val="99ffcc"/>
                </a:solidFill>
                <a:latin typeface="Garamond"/>
              </a:rPr>
              <a:t>J</a:t>
            </a:r>
            <a:r>
              <a:rPr b="1" lang="ru-RU" sz="2000" spc="-1" strike="noStrike">
                <a:solidFill>
                  <a:srgbClr val="99ffcc"/>
                </a:solidFill>
                <a:latin typeface="Garamond"/>
              </a:rPr>
              <a:t> и </a:t>
            </a:r>
            <a:r>
              <a:rPr b="1" lang="en-US" sz="2000" spc="-1" strike="noStrike">
                <a:solidFill>
                  <a:srgbClr val="99ffcc"/>
                </a:solidFill>
                <a:latin typeface="Garamond"/>
              </a:rPr>
              <a:t>K</a:t>
            </a:r>
            <a:r>
              <a:rPr b="1" lang="ru-RU" sz="2000" spc="-1" strike="noStrike">
                <a:solidFill>
                  <a:srgbClr val="99ffcc"/>
                </a:solidFill>
                <a:latin typeface="Garamond"/>
              </a:rPr>
              <a:t> и он не меняет своего с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6308640"/>
            <a:ext cx="1295280" cy="549360"/>
          </a:xfrm>
          <a:prstGeom prst="rect">
            <a:avLst/>
          </a:pr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3" action="ppaction://hlinksldjump"/>
              </a:rPr>
              <a:t>JK-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Garamond"/>
                <a:hlinkClick r:id="rId4" action="ppaction://hlinksldjump"/>
              </a:rPr>
              <a:t>тригг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6308640"/>
            <a:ext cx="1368360" cy="549360"/>
          </a:xfrm>
          <a:prstGeom prst="rect">
            <a:avLst/>
          </a:pr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5" action="ppaction://hlinksldjump"/>
              </a:rPr>
              <a:t>Таблица пере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32000" y="6308640"/>
            <a:ext cx="1224000" cy="549360"/>
          </a:xfrm>
          <a:prstGeom prst="rect">
            <a:avLst/>
          </a:pr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6" action="ppaction://hlinksldjump"/>
              </a:rPr>
              <a:t>Временная диа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6308640"/>
            <a:ext cx="1368360" cy="549360"/>
          </a:xfrm>
          <a:prstGeom prst="rect">
            <a:avLst/>
          </a:pr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7" action="ppaction://hlinksldjump"/>
              </a:rPr>
              <a:t>Построение  на Л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6308640"/>
            <a:ext cx="1657440" cy="549360"/>
          </a:xfrm>
          <a:prstGeom prst="rect">
            <a:avLst/>
          </a:pr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6600"/>
                </a:solidFill>
                <a:uFillTx/>
                <a:latin typeface="Garamond"/>
                <a:hlinkClick r:id="rId8" action="ppaction://hlinksldjump"/>
              </a:rPr>
              <a:t>Универсальный 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9" action="ppaction://hlinksldjump"/>
              </a:rPr>
              <a:t>JK-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Garamond"/>
                <a:hlinkClick r:id="rId10" action="ppaction://hlinksldjump"/>
              </a:rPr>
              <a:t>тригг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6308640"/>
            <a:ext cx="1368360" cy="549360"/>
          </a:xfrm>
          <a:prstGeom prst="rect">
            <a:avLst/>
          </a:pr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11" action="ppaction://hlinksldjump"/>
              </a:rPr>
              <a:t>Другие виды тригг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solidFill>
            <a:srgbClr val="000000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Garamond"/>
              </a:rPr>
              <a:t>Реализация </a:t>
            </a:r>
            <a:r>
              <a:rPr b="1" lang="en-US" sz="3200" spc="-1" strike="noStrike">
                <a:solidFill>
                  <a:srgbClr val="ff5050"/>
                </a:solidFill>
                <a:latin typeface="Garamond"/>
              </a:rPr>
              <a:t>JK-</a:t>
            </a:r>
            <a:r>
              <a:rPr b="1" lang="ru-RU" sz="3200" spc="-1" strike="noStrike">
                <a:solidFill>
                  <a:srgbClr val="ff5050"/>
                </a:solidFill>
                <a:latin typeface="Garamond"/>
              </a:rPr>
              <a:t>триггера с помощью ЛЭ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1628640"/>
            <a:ext cx="8229600" cy="1584360"/>
          </a:xfrm>
          <a:prstGeom prst="rect">
            <a:avLst/>
          </a:pr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Garamond"/>
              </a:rPr>
              <a:t>Ниже представлена реализация универсального JK-триггера на логических элементах. Как уже отмечалось, с помощью</a:t>
            </a:r>
            <a:r>
              <a:rPr b="1" lang="en-US" sz="2400" spc="-1" strike="noStrike">
                <a:solidFill>
                  <a:srgbClr val="00ff00"/>
                </a:solidFill>
                <a:latin typeface="Garamond"/>
              </a:rPr>
              <a:t> JK-</a:t>
            </a:r>
            <a:r>
              <a:rPr b="1" lang="ru-RU" sz="2400" spc="-1" strike="noStrike">
                <a:solidFill>
                  <a:srgbClr val="00ff00"/>
                </a:solidFill>
                <a:latin typeface="Garamond"/>
              </a:rPr>
              <a:t>триггера можно построить любой другой тип</a:t>
            </a:r>
            <a:r>
              <a:rPr b="1" lang="en-US" sz="2400" spc="-1" strike="noStrike">
                <a:solidFill>
                  <a:srgbClr val="00ff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ff00"/>
                </a:solidFill>
                <a:latin typeface="Garamond"/>
              </a:rPr>
              <a:t>триггера.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484360" y="3357720"/>
            <a:ext cx="3672000" cy="2592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24000" y="6308640"/>
            <a:ext cx="1295280" cy="549360"/>
          </a:xfrm>
          <a:prstGeom prst="rect">
            <a:avLst/>
          </a:prstGeom>
          <a:solidFill>
            <a:srgbClr val="0000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3" action="ppaction://hlinksldjump"/>
              </a:rPr>
              <a:t>JK-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Garamond"/>
                <a:hlinkClick r:id="rId4" action="ppaction://hlinksldjump"/>
              </a:rPr>
              <a:t>тригг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6308640"/>
            <a:ext cx="1368360" cy="549360"/>
          </a:xfrm>
          <a:prstGeom prst="rect">
            <a:avLst/>
          </a:prstGeom>
          <a:solidFill>
            <a:srgbClr val="0000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5" action="ppaction://hlinksldjump"/>
              </a:rPr>
              <a:t>Таблица пере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2000" y="6308640"/>
            <a:ext cx="1224000" cy="549360"/>
          </a:xfrm>
          <a:prstGeom prst="rect">
            <a:avLst/>
          </a:prstGeom>
          <a:solidFill>
            <a:srgbClr val="0000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6" action="ppaction://hlinksldjump"/>
              </a:rPr>
              <a:t>Временная диа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27640" y="6308640"/>
            <a:ext cx="1368360" cy="549360"/>
          </a:xfrm>
          <a:prstGeom prst="rect">
            <a:avLst/>
          </a:prstGeom>
          <a:solidFill>
            <a:srgbClr val="0000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7" action="ppaction://hlinksldjump"/>
              </a:rPr>
              <a:t>Построение  на Л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6308640"/>
            <a:ext cx="1657440" cy="549360"/>
          </a:xfrm>
          <a:prstGeom prst="rect">
            <a:avLst/>
          </a:prstGeom>
          <a:solidFill>
            <a:srgbClr val="0000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6600"/>
                </a:solidFill>
                <a:uFillTx/>
                <a:latin typeface="Garamond"/>
                <a:hlinkClick r:id="rId8" action="ppaction://hlinksldjump"/>
              </a:rPr>
              <a:t>Универсальный 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9" action="ppaction://hlinksldjump"/>
              </a:rPr>
              <a:t>JK-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Garamond"/>
                <a:hlinkClick r:id="rId10" action="ppaction://hlinksldjump"/>
              </a:rPr>
              <a:t>тригг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96360" y="6308640"/>
            <a:ext cx="1368360" cy="549360"/>
          </a:xfrm>
          <a:prstGeom prst="rect">
            <a:avLst/>
          </a:prstGeom>
          <a:solidFill>
            <a:srgbClr val="0000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11" action="ppaction://hlinksldjump"/>
              </a:rPr>
              <a:t>Другие виды тригг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Универсальный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JK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тригге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6308640"/>
            <a:ext cx="1295280" cy="54936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JK-</a:t>
            </a:r>
            <a:r>
              <a:rPr b="0" lang="ru-RU" sz="17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тригге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2360" y="6308640"/>
            <a:ext cx="1368360" cy="54936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аблица переход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32000" y="6308640"/>
            <a:ext cx="1224000" cy="54936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ременная диаграмм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7640" y="6308640"/>
            <a:ext cx="1368360" cy="54936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остроение  на ЛЭ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6308640"/>
            <a:ext cx="1657440" cy="54936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Универсальный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JK-</a:t>
            </a:r>
            <a:r>
              <a:rPr b="0" lang="ru-RU" sz="17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тригге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96360" y="6308640"/>
            <a:ext cx="1368360" cy="549360"/>
          </a:xfrm>
          <a:prstGeom prst="rect">
            <a:avLst/>
          </a:prstGeom>
          <a:solidFill>
            <a:srgbClr val="00000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Другие виды триггер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773360"/>
            <a:ext cx="8229600" cy="1139760"/>
          </a:xfrm>
          <a:prstGeom prst="rect">
            <a:avLst/>
          </a:prstGeom>
          <a:solidFill>
            <a:srgbClr val="0000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Универсальный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JK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риггер, построенный на логических элемента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19280" y="2924280"/>
            <a:ext cx="5473800" cy="3241440"/>
          </a:xfrm>
          <a:prstGeom prst="rect">
            <a:avLst/>
          </a:prstGeom>
          <a:solidFill>
            <a:srgbClr val="00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1763640" y="3139920"/>
            <a:ext cx="5183280" cy="2870280"/>
          </a:xfrm>
          <a:prstGeom prst="rect">
            <a:avLst/>
          </a:prstGeom>
          <a:ln w="0">
            <a:noFill/>
          </a:ln>
        </p:spPr>
      </p:pic>
    </p:spTree>
  </p:cSld>
  <p:transition advTm="15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6000" y="277920"/>
            <a:ext cx="7570800" cy="847440"/>
          </a:xfrm>
          <a:prstGeom prst="rect">
            <a:avLst/>
          </a:prstGeom>
          <a:solidFill>
            <a:srgbClr val="000000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Другие виды триггеров на основе</a:t>
            </a:r>
            <a:br>
              <a:rPr sz="2800"/>
            </a:b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Garamond"/>
              </a:rPr>
              <a:t>JK-</a:t>
            </a:r>
            <a:r>
              <a:rPr b="1" lang="ru-RU" sz="2800" spc="-1" strike="noStrike">
                <a:solidFill>
                  <a:srgbClr val="ff5050"/>
                </a:solidFill>
                <a:latin typeface="Garamond"/>
              </a:rPr>
              <a:t>триггера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50680" y="2247840"/>
            <a:ext cx="2676600" cy="18288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нхронный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S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игг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6308640"/>
            <a:ext cx="1295280" cy="549360"/>
          </a:xfrm>
          <a:prstGeom prst="rect">
            <a:avLst/>
          </a:prstGeom>
          <a:solidFill>
            <a:srgbClr val="000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2" action="ppaction://hlinksldjump"/>
              </a:rPr>
              <a:t>JK-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Garamond"/>
                <a:hlinkClick r:id="rId3" action="ppaction://hlinksldjump"/>
              </a:rPr>
              <a:t>тригг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92360" y="6308640"/>
            <a:ext cx="1368360" cy="549360"/>
          </a:xfrm>
          <a:prstGeom prst="rect">
            <a:avLst/>
          </a:prstGeom>
          <a:solidFill>
            <a:srgbClr val="00000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4" action="ppaction://hlinksldjump"/>
              </a:rPr>
              <a:t>Таблица пере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32000" y="6308640"/>
            <a:ext cx="1224000" cy="549360"/>
          </a:xfrm>
          <a:prstGeom prst="rect">
            <a:avLst/>
          </a:prstGeom>
          <a:solidFill>
            <a:srgbClr val="0000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5" action="ppaction://hlinksldjump"/>
              </a:rPr>
              <a:t>Временная диа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27640" y="6308640"/>
            <a:ext cx="1368360" cy="549360"/>
          </a:xfrm>
          <a:prstGeom prst="rect">
            <a:avLst/>
          </a:prstGeom>
          <a:solidFill>
            <a:srgbClr val="0000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Garamond"/>
                <a:hlinkClick r:id="rId6" action="ppaction://hlinksldjump"/>
              </a:rPr>
              <a:t>Построение  на Л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6308640"/>
            <a:ext cx="1657440" cy="549360"/>
          </a:xfrm>
          <a:prstGeom prst="rect">
            <a:avLst/>
          </a:prstGeom>
          <a:solidFill>
            <a:srgbClr val="0000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ниверсальный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JK-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игг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96360" y="6308640"/>
            <a:ext cx="1368360" cy="549360"/>
          </a:xfrm>
          <a:prstGeom prst="rect">
            <a:avLst/>
          </a:prstGeom>
          <a:solidFill>
            <a:srgbClr val="00000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Другие виды тригг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2340000" y="2708280"/>
            <a:ext cx="1434960" cy="1282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859280" y="2276640"/>
            <a:ext cx="2676600" cy="18288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синхронный Т-тригг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292640"/>
            <a:ext cx="2676600" cy="18288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нхронный Т-тригг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59280" y="4292640"/>
            <a:ext cx="2676600" cy="18288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нхронный D-тригге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1197000"/>
            <a:ext cx="7570800" cy="1008000"/>
          </a:xfrm>
          <a:prstGeom prst="rect">
            <a:avLst/>
          </a:prstGeom>
          <a:solidFill>
            <a:srgbClr val="00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мышленность выпускает готовы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JK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-триггеры в виде ИМС, которые дополнительно снабжены установочными входам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Эти входы – асинхронные: пр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0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1 на триггере мгновенно устанавливаетс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Qt+1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1, пр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1,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0 состояние тригге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Qt+1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5292720" y="2708280"/>
            <a:ext cx="1739880" cy="1282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2195640" y="4724280"/>
            <a:ext cx="1739880" cy="1282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0"/>
          <a:stretch/>
        </p:blipFill>
        <p:spPr>
          <a:xfrm>
            <a:off x="5364000" y="4724280"/>
            <a:ext cx="1740240" cy="1282680"/>
          </a:xfrm>
          <a:prstGeom prst="rect">
            <a:avLst/>
          </a:prstGeom>
          <a:ln w="0">
            <a:noFill/>
          </a:ln>
        </p:spPr>
      </p:pic>
    </p:spTree>
  </p:cSld>
  <p:transition advTm="15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20:29:25Z</dcterms:created>
  <dc:creator>Олег</dc:creator>
  <dc:description/>
  <dc:language>en-US</dc:language>
  <cp:lastModifiedBy>1a214</cp:lastModifiedBy>
  <dcterms:modified xsi:type="dcterms:W3CDTF">2010-05-18T07:42:02Z</dcterms:modified>
  <cp:revision>97</cp:revision>
  <dc:subject/>
  <dc:title>Слайд 1</dc:title>
</cp:coreProperties>
</file>